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explode.wav" ContentType="audio/x-wav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D6D1C-8200-4583-92EE-4CC1F5DC08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0A870-2E9F-475B-B840-6EA10D1F4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8FED0-4A86-40C9-A54E-505585D6F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8441D-D12D-48E0-8449-E0031FEBE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CF47A5-59F0-4044-9398-03A4A2061C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0DE8F-F120-456E-95B3-BE86DF555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488DC1-65B4-46C6-8087-7E471C073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E39773-3831-4E83-B120-8CD0A6290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FFBA74-A12D-4568-BBB2-80B5E9932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3F6A1-E4BC-4AB0-A1DF-0937A8FE8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49C5E-1075-4E59-AA3E-4D9D2974D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DF6F8-74BC-42B2-A882-BA03F45C6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6ACA7-2D6A-4A0C-BC32-28D954D6A8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192C6-CEFF-4897-92B4-7B465D28D4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F0559-9DC1-48F1-8FB9-4345CD744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0E56E-6EF9-4EDD-AE1D-21FC02921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9E5A2-83AA-49A0-A76B-7E80BCFE6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599741-9F16-43E0-A14F-770C07F5A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ADB08-66AB-4962-B343-262EE3A12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4BCEE-2AE8-4159-B72E-4AE24AADF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76398C-C799-4230-ABE0-ED94C9E00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736E4-A36B-453C-B387-05AD90C46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56C6A1-4B5D-4FDB-8293-71C2A2C60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3789F-21E9-4B1D-B748-1F6D105B9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2AF6A8-6D71-490B-8ACE-0D776A4DB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03A60-C8BB-47D2-A078-B5806AAF49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827DF-8C8F-488A-8FEC-AA938E1B4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DF6A54-EFFF-4B33-B3B9-EB0212E6F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CE3-12F8-4435-9237-C9F3F92B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CD82-3AD0-465B-869C-C43E89D6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5215-734B-4879-B8A9-FE738152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4E21-4F5A-48B8-9A96-52D92225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011A-E46F-4BD4-8D87-AED79834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CC0A-F81B-494C-80BE-D8F1A5A6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E3CB-D14F-43E2-AC2F-812BEF98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07A4-33CD-40B6-837B-D963075D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4B6F-9E1E-461E-A1A7-C448F3A4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B793-519E-4A17-A20D-C41A4B88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15EE-FD01-466F-AA64-5047B537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629B-EB83-48F7-956E-76F3FBFC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5007-A360-48B4-BF42-0F3C283B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F7FC-FC36-40A2-ADE1-D43B9853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7560-E9B1-49CE-AD50-35D896F6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7A1D-52C5-4D97-932E-89662A82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87BB-D5B5-49F6-AAFC-7E3F48E4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28898-432E-4CD6-A1C7-B60F3F75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DF919-6FC6-4C6D-89FC-00D1F183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F8678D-2BDB-456A-A478-A049DBC6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1B0F8-F3EF-40EC-A414-D6F17389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C99CE-6063-4AD6-B209-09E7B02C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100F-FEA1-473F-81C9-A538B18D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C8D038-FF2C-4F4E-9DB3-A52A9A58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3D084A-05D7-4D96-94CA-0B883DC3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3C124A-95D8-4E47-90AB-DA4E74B4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B055F-CD18-4210-B88F-7D882A25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29422-E8E8-46BC-B445-02AD400B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CB862-94D6-482D-B338-E6566C48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B782EC-17EB-4C31-8FD9-DD1645A8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10E704-337A-4D89-A599-72A4F7D0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1041D9-685D-4C6C-94D9-FBC16D87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39E16A-C8E4-4D4F-AAEB-3904070A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9DD1-4D6E-40A2-8560-216A3984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D52D16-45EA-40DC-AD79-2963AA47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3C2E61-48C1-4BEC-81ED-42F2E06D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7ED19E-BA43-4A47-B5E1-0B06724C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E633C1-CD39-4015-BF9D-13ED38AC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782E32-025D-4800-8F16-7DED69C6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258F0E-DEF4-49A1-9106-A3EA0E90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A91DB4-2CCE-4F00-AB17-56F3B0F6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36EE47-5E47-49EE-84C0-94F274F2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5BD59F-0E41-4D55-AC23-1E101A47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FBB039-0806-4010-8295-6141685F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58AB-6584-4999-BFEB-B2D987C9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4E4273-9359-4DDE-824E-5E8B562B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22D16A-C44C-4F4D-863C-3C6FCBFE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B7DF7-8ACE-4D41-89B7-2938D1FF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D58E78-4578-44D0-B541-B44E2305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024A38-BC6B-48EA-AAFD-C8C8E086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823812-7033-4996-9AC8-6FCDA520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2152DE-F332-445E-9797-3F91661E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578194-FCA4-4F96-A874-A07893C9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22E9E-69EF-4B75-8414-FEA8AD4A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ED1F3E-6241-44EB-B2E3-8DE6F340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BBB5-77F9-499E-BD54-DECA2EC4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4D6FE0-2B6F-4DF4-9444-EDBEE0AE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B7FA3-A9B7-46D8-A3BE-26F45D7F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703C4-320E-45D0-89EB-49CCF1BA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01B93-93BC-4297-BF29-DD267C3E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BCF65-8E2F-4440-A7D4-FAEBDACD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84AB6-B1D6-4326-8866-06C1561E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A7C27-D84E-452E-A143-8A9AEC15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900D4-5A68-404B-8EB5-98C8A79C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B15E0-F004-437C-B14A-1FB12743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03BDD-05C1-4D59-85B9-66E86288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81CA-D8A8-4945-B1DB-B9C98E35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32659-8946-4B6F-B7AC-AD6BFEF6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3C64C-D112-45E5-B923-A581A8BE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FF0D9-465A-40A1-8816-4A2779AB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A3ADF1-B25C-4F02-960D-511AAC20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0325B4-C7EA-4E56-B70A-C47F0018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C82740-AFD6-49AF-A244-EEBEE741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F775D7-F351-4F13-8A08-C6A46585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48B196-ECA9-45D9-8A13-D7F91C2F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56D930-BA7B-46DB-A6BA-16E56785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3A45E5-02D1-4836-8D8D-A530621A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CA0-1516-4D1A-892C-254A1CB2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8A3AD7-9F83-4AF4-ABF3-BD9552E9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0C8118-C0ED-43A2-8C11-BB5AD379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7444CE-317A-4731-9BD8-0EB342B1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972683-EEAC-4DFD-995F-3CD7F23E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F01353-DA65-4D39-AD94-F7669A19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7B4C7-3A84-42CA-85CE-492A304F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A5F63-E0C2-473D-A755-D4106157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885C2-58F9-461D-AFE9-A3073849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4E341-B1F8-4B98-8E93-5A955A62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1BE1F-B5E3-44E8-8AEF-7E2F1DDB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294-FDB4-465B-A618-99E0B345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C5851-77FF-4F68-AAAA-DAB3AF66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4A3A7-69BC-42FA-90FF-A2AE8F5B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AA01B-8BD2-4225-8F13-6999ABF0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A7D93-A829-4999-9415-5B9EEE55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62AB7-0EF5-455A-81D6-F8F51FBF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01F7F-4FD8-4570-BB93-E8C80F48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A866D-F2B4-40EB-8D53-C4D35822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d709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d70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7B368-FF28-4B84-B5FA-AD3813057CC4}" type="datetime">
              <a:rPr b="0" lang="en-US" sz="1400" spc="-1" strike="noStrike">
                <a:solidFill>
                  <a:srgbClr val="6d709e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8C6EF-DAFC-45ED-8ACE-841DD737F01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CDDB4-A64D-4134-BFD7-A9808A97EF96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51D6F4-0A5C-497D-9697-AB49E2E28E71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d709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d70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57B05-0462-4D5D-8F68-05186BF94471}" type="datetime">
              <a:rPr b="0" lang="en-US" sz="1400" spc="-1" strike="noStrike">
                <a:solidFill>
                  <a:srgbClr val="6d709e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A4D0B-8612-47C0-AA2B-A0D7FE5CC113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d709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d70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E35CB-CDDF-4753-B101-ECBE2FCC3B38}" type="datetime">
              <a:rPr b="0" lang="en-US" sz="1400" spc="-1" strike="noStrike">
                <a:solidFill>
                  <a:srgbClr val="6d709e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96443E-5817-453D-9F86-BF989DC10F4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d709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d70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B1545-2381-4C37-A06C-985E1D372A6B}" type="datetime">
              <a:rPr b="0" lang="en-US" sz="1400" spc="-1" strike="noStrike">
                <a:solidFill>
                  <a:srgbClr val="6d709e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1797A-CCAE-4AF9-8A5A-432F0E71690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d709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d70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82C4F-07B3-4A38-8F26-7E8FFDD8E92B}" type="datetime">
              <a:rPr b="0" lang="en-US" sz="1400" spc="-1" strike="noStrike">
                <a:solidFill>
                  <a:srgbClr val="6d709e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6d70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CB33A-95F1-40E4-BC88-05263531995F}" type="slidenum">
              <a:rPr b="1" lang="en-US" sz="1400" spc="-1" strike="noStrike">
                <a:solidFill>
                  <a:srgbClr val="6d709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d709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d70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43BF4D-9776-4526-8EDC-9EA4433E010C}" type="datetime">
              <a:rPr b="0" lang="en-US" sz="1400" spc="-1" strike="noStrike">
                <a:solidFill>
                  <a:srgbClr val="6d709e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39088-C80D-46F1-BF2A-78EAD59C23B3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d709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d70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C56EA-CE83-415F-86CB-86FEDF306BD3}" type="datetime">
              <a:rPr b="0" lang="en-US" sz="1400" spc="-1" strike="noStrike">
                <a:solidFill>
                  <a:srgbClr val="6d709e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AB190-5BB5-4AB8-887B-4DB7969C5FF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d709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ucl.ac.uk/history/courses/europe1/chron/rch5.htm" TargetMode="External"/><Relationship Id="rId2" Type="http://schemas.openxmlformats.org/officeDocument/2006/relationships/hyperlink" Target="http://chnm.gmu.edu/revolution/" TargetMode="External"/><Relationship Id="rId3" Type="http://schemas.openxmlformats.org/officeDocument/2006/relationships/hyperlink" Target="http://www.napoleonguide.com/index.htm" TargetMode="External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END OF THE RADICAL REV</a:t>
            </a: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(remainder of today's ppt)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2"/>
          <p:cNvSpPr/>
          <p:nvPr/>
        </p:nvSpPr>
        <p:spPr>
          <a:xfrm>
            <a:off x="1066680" y="212760"/>
            <a:ext cx="71535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lackChancery"/>
              </a:rPr>
              <a:t>Religious Terror:</a:t>
            </a:r>
            <a:br>
              <a:rPr sz="4000"/>
            </a:br>
            <a:r>
              <a:rPr b="1" lang="en-US" sz="3600" spc="-1" strike="noStrike">
                <a:solidFill>
                  <a:srgbClr val="ff3300"/>
                </a:solidFill>
                <a:latin typeface="BlackChancery"/>
              </a:rPr>
              <a:t>De-Christianization </a:t>
            </a:r>
            <a:r>
              <a:rPr b="1" lang="en-US" sz="3200" spc="-1" strike="noStrike">
                <a:solidFill>
                  <a:srgbClr val="ff3300"/>
                </a:solidFill>
                <a:latin typeface="BlackChancery"/>
              </a:rPr>
              <a:t>(1793-1794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1371600" y="1866960"/>
            <a:ext cx="67057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buClr>
                <a:srgbClr val="d00000"/>
              </a:buClr>
              <a:buFont typeface="Wingdings" charset="2"/>
              <a:buChar char="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Catholic Church was linked wit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al or potential counter-revolutio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>
              <a:lnSpc>
                <a:spcPct val="100000"/>
              </a:lnSpc>
              <a:buClr>
                <a:srgbClr val="d00000"/>
              </a:buClr>
              <a:buFont typeface="Wingdings" charset="2"/>
              <a:buChar char="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ligion was associated with the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Ancien Régim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and superstitiou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actice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>
              <a:lnSpc>
                <a:spcPct val="100000"/>
              </a:lnSpc>
              <a:buClr>
                <a:srgbClr val="d00000"/>
              </a:buClr>
              <a:buFont typeface="Wingdings" charset="2"/>
              <a:buChar char="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ery popular among the 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sans-culotte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>
              <a:lnSpc>
                <a:spcPct val="100000"/>
              </a:lnSpc>
              <a:buClr>
                <a:srgbClr val="d00000"/>
              </a:buClr>
              <a:buFont typeface="Wingdings" charset="2"/>
              <a:buChar char="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refore, religion had no place in a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ational, secular republic!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762120" y="277920"/>
            <a:ext cx="76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lackChancery"/>
              </a:rPr>
              <a:t>The De-Christianization Program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1164240" y="1450800"/>
            <a:ext cx="69235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ec0000"/>
              </a:buClr>
              <a:buFont typeface="Comic Sans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doption of a new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publican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alend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084320" indent="-277920">
              <a:lnSpc>
                <a:spcPct val="100000"/>
              </a:lnSpc>
              <a:buClr>
                <a:srgbClr val="dd8047"/>
              </a:buClr>
              <a:buFont typeface="PressWriter Symbols" charset="2"/>
              <a:buChar char="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bolished Sundays &amp; religious holiday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084320" indent="-277920">
              <a:lnSpc>
                <a:spcPct val="100000"/>
              </a:lnSpc>
              <a:buClr>
                <a:srgbClr val="dd8047"/>
              </a:buClr>
              <a:buFont typeface="PressWriter Symbols" charset="2"/>
              <a:buChar char="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onths named after seasonal feature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084320" indent="-277920">
              <a:lnSpc>
                <a:spcPct val="100000"/>
              </a:lnSpc>
              <a:buClr>
                <a:srgbClr val="dd8047"/>
              </a:buClr>
              <a:buFont typeface="PressWriter Symbols" charset="2"/>
              <a:buChar char="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7-day weeks replaced by 10-da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cade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084320" indent="-277920">
              <a:lnSpc>
                <a:spcPct val="100000"/>
              </a:lnSpc>
              <a:buClr>
                <a:srgbClr val="dd8047"/>
              </a:buClr>
              <a:buFont typeface="PressWriter Symbols" charset="2"/>
              <a:buChar char="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e yearly calendar was dated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e creation of the Republic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[Sept. 22, 1792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Line 4"/>
          <p:cNvSpPr/>
          <p:nvPr/>
        </p:nvSpPr>
        <p:spPr>
          <a:xfrm>
            <a:off x="4724280" y="5029200"/>
            <a:ext cx="0" cy="762120"/>
          </a:xfrm>
          <a:prstGeom prst="line">
            <a:avLst/>
          </a:prstGeom>
          <a:ln w="38160">
            <a:solidFill>
              <a:srgbClr val="6d70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2666880" y="5791320"/>
            <a:ext cx="4496040" cy="396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20424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1600200" y="57150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dd8047"/>
                </a:solidFill>
                <a:latin typeface="Comic Sans MS"/>
              </a:rPr>
              <a:t>The Convention symbolically divorced the state from the Church!!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1371600" y="243000"/>
            <a:ext cx="641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A Republican Calendar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3" name="Picture 3" descr="Republican Calendar"/>
          <p:cNvPicPr/>
          <p:nvPr/>
        </p:nvPicPr>
        <p:blipFill>
          <a:blip r:embed="rId1"/>
          <a:stretch/>
        </p:blipFill>
        <p:spPr>
          <a:xfrm>
            <a:off x="2265480" y="1066680"/>
            <a:ext cx="474480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990720" y="258840"/>
            <a:ext cx="72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lackChancery"/>
              </a:rPr>
              <a:t>The New Republican Calendar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143000" y="905040"/>
          <a:ext cx="7086600" cy="5154480"/>
        </p:xfrm>
        <a:graphic>
          <a:graphicData uri="http://schemas.openxmlformats.org/drawingml/2006/table">
            <a:tbl>
              <a:tblPr/>
              <a:tblGrid>
                <a:gridCol w="1752480"/>
                <a:gridCol w="1524240"/>
                <a:gridCol w="3809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ec0000"/>
                          </a:solidFill>
                          <a:uFillTx/>
                          <a:latin typeface="Comic Sans MS"/>
                        </a:rPr>
                        <a:t>New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Mea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Comic Sans MS"/>
                        </a:rPr>
                        <a:t>Time Peri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Vendema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Vin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eptember 22 – October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Bruma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October 22 – November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Frima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r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ovember 21 – December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Niv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ecember 21 – January 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Pluvi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anuary 20 – February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Vent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W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February 19 – March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Germi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ud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ch 21 – April 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Flo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low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pril 20 – May 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Prai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Mead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y 20 – June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Messi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Harv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une 19 – July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Thermi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H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uly 19 – August 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Fructi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ru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ugust 18 – September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685800" y="15228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lackChancery"/>
              </a:rPr>
              <a:t>A New Republican Calendar Year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2971800" y="914400"/>
          <a:ext cx="3581280" cy="5181480"/>
        </p:xfrm>
        <a:graphic>
          <a:graphicData uri="http://schemas.openxmlformats.org/drawingml/2006/table">
            <a:tbl>
              <a:tblPr/>
              <a:tblGrid>
                <a:gridCol w="1171440"/>
                <a:gridCol w="240984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792 – 17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793 – 17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794 – 17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795 – 1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796 – 17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797 – 17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798 – 17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799 – 1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800 – 18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801 – 18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802 – 18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803 – 18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804 – 18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8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48" name="Rectangle 91"/>
          <p:cNvSpPr/>
          <p:nvPr/>
        </p:nvSpPr>
        <p:spPr>
          <a:xfrm>
            <a:off x="2612160" y="6184800"/>
            <a:ext cx="59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dd8047"/>
                </a:solidFill>
                <a:latin typeface="Comic Sans MS"/>
              </a:rPr>
              <a:t>The Gregorian System returned in 1806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928800" y="228600"/>
            <a:ext cx="73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lackChancery"/>
              </a:rPr>
              <a:t>The De-Christianization Program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1143000" y="1069920"/>
            <a:ext cx="73152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ec0000"/>
              </a:buClr>
              <a:buFont typeface="Comic Sans MS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ublic exercise of religion w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nn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buClr>
                <a:srgbClr val="ec0000"/>
              </a:buClr>
              <a:buFont typeface="Comic Sans MS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aris Commune supported th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022400" indent="-277920">
              <a:lnSpc>
                <a:spcPct val="100000"/>
              </a:lnSpc>
              <a:buClr>
                <a:srgbClr val="dd8047"/>
              </a:buClr>
              <a:buFont typeface="PressWriter Symbols" charset="2"/>
              <a:buChar char="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struction of religious &amp; royal statue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022400" indent="-277920">
              <a:lnSpc>
                <a:spcPct val="100000"/>
              </a:lnSpc>
              <a:buClr>
                <a:srgbClr val="dd8047"/>
              </a:buClr>
              <a:buFont typeface="PressWriter Symbols" charset="2"/>
              <a:buChar char="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n on clerical dres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022400" indent="-277920">
              <a:lnSpc>
                <a:spcPct val="100000"/>
              </a:lnSpc>
              <a:buClr>
                <a:srgbClr val="dd8047"/>
              </a:buClr>
              <a:buFont typeface="PressWriter Symbols" charset="2"/>
              <a:buChar char="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ncouragement of the clergy to give up their vocation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buClr>
                <a:srgbClr val="ec0000"/>
              </a:buClr>
              <a:buFont typeface="Comic Sans MS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athedral of Notre Dame in Par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s turned into the </a:t>
            </a:r>
            <a:r>
              <a:rPr b="1" lang="en-US" sz="2400" spc="-1" strike="noStrike">
                <a:solidFill>
                  <a:srgbClr val="dd8047"/>
                </a:solidFill>
                <a:latin typeface="Comic Sans MS"/>
              </a:rPr>
              <a:t>“Temple of Reason.”</a:t>
            </a:r>
            <a:br>
              <a:rPr sz="2400"/>
            </a:br>
            <a:r>
              <a:rPr b="1" lang="en-US" sz="2400" spc="-1" strike="noStrike">
                <a:solidFill>
                  <a:srgbClr val="dd8047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buClr>
                <a:srgbClr val="ec0000"/>
              </a:buClr>
              <a:buFont typeface="Comic Sans MS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portation of priests denounced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 citizen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380880" y="2728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The “Temple of Reason”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2449440" y="5943600"/>
            <a:ext cx="669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dd8047"/>
                </a:solidFill>
                <a:latin typeface="Comic Sans MS"/>
              </a:rPr>
              <a:t>Come, holy Liberty, inhabit this temple, </a:t>
            </a:r>
            <a:br>
              <a:rPr sz="2400"/>
            </a:br>
            <a:r>
              <a:rPr b="1" i="1" lang="en-US" sz="2400" spc="-1" strike="noStrike">
                <a:solidFill>
                  <a:srgbClr val="dd8047"/>
                </a:solidFill>
                <a:latin typeface="Comic Sans MS"/>
              </a:rPr>
              <a:t>Become the goddess of the French peop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3" name="Picture 4" descr="gothic_notre_dame-paris"/>
          <p:cNvPicPr/>
          <p:nvPr/>
        </p:nvPicPr>
        <p:blipFill>
          <a:blip r:embed="rId1">
            <a:lum contrast="6000"/>
          </a:blip>
          <a:srcRect l="0" t="7446" r="0" b="0"/>
          <a:stretch/>
        </p:blipFill>
        <p:spPr>
          <a:xfrm>
            <a:off x="1676520" y="1220760"/>
            <a:ext cx="5943600" cy="4341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228600" y="21276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The Festival of Supreme Being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5" name="Picture 3" descr="supreme04"/>
          <p:cNvPicPr/>
          <p:nvPr/>
        </p:nvPicPr>
        <p:blipFill>
          <a:blip r:embed="rId1"/>
          <a:srcRect l="4666" t="5059" r="3779" b="10192"/>
          <a:stretch/>
        </p:blipFill>
        <p:spPr>
          <a:xfrm>
            <a:off x="838080" y="1109520"/>
            <a:ext cx="7543800" cy="4834080"/>
          </a:xfrm>
          <a:prstGeom prst="rect">
            <a:avLst/>
          </a:prstGeom>
          <a:ln w="9360">
            <a:solidFill>
              <a:srgbClr val="ebddc3"/>
            </a:solidFill>
            <a:miter/>
          </a:ln>
        </p:spPr>
      </p:pic>
      <p:sp>
        <p:nvSpPr>
          <p:cNvPr id="456" name="Text Box 4"/>
          <p:cNvSpPr/>
          <p:nvPr/>
        </p:nvSpPr>
        <p:spPr>
          <a:xfrm>
            <a:off x="2590920" y="6095880"/>
            <a:ext cx="411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 new secular holida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1066680" y="15228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lackChancery"/>
              </a:rPr>
              <a:t>Backlash to the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BlackChancery"/>
              </a:rPr>
              <a:t>De-Christianization Program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1432080" y="1600200"/>
            <a:ext cx="65574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ec0000"/>
              </a:buClr>
              <a:buFont typeface="Wingdings" charset="2"/>
              <a:buChar char="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alienated most of the popul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specially in the rural areas)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71680" indent="-571680">
              <a:lnSpc>
                <a:spcPct val="100000"/>
              </a:lnSpc>
              <a:buClr>
                <a:srgbClr val="ec0000"/>
              </a:buClr>
              <a:buFont typeface="Wingdings" charset="2"/>
              <a:buChar char="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bespierre never supported i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084320" indent="-277920">
              <a:lnSpc>
                <a:spcPct val="100000"/>
              </a:lnSpc>
              <a:buClr>
                <a:srgbClr val="dd8047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e persuaded the Convention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affirm the principle of religiou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olera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1680" indent="-571680">
              <a:lnSpc>
                <a:spcPct val="100000"/>
              </a:lnSpc>
              <a:buClr>
                <a:srgbClr val="ec0000"/>
              </a:buClr>
              <a:buFont typeface="Wingdings" charset="2"/>
              <a:buChar char="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ree on the </a:t>
            </a:r>
            <a:r>
              <a:rPr b="1" lang="en-US" sz="2800" spc="-1" strike="noStrike">
                <a:solidFill>
                  <a:srgbClr val="dd8047"/>
                </a:solidFill>
                <a:latin typeface="Comic Sans MS"/>
              </a:rPr>
              <a:t>“Liberty of Cult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s passe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084320" indent="-277920">
              <a:lnSpc>
                <a:spcPct val="100000"/>
              </a:lnSpc>
              <a:buClr>
                <a:srgbClr val="dd8047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cember 6, 1793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084320" indent="-277920">
              <a:lnSpc>
                <a:spcPct val="100000"/>
              </a:lnSpc>
              <a:buClr>
                <a:srgbClr val="dd8047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UT, it had little practical effect!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0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5029200" y="822240"/>
            <a:ext cx="3429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lackChancery"/>
              </a:rPr>
              <a:t>The Radical’s Arms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dd8047"/>
                </a:solidFill>
                <a:latin typeface="Comic Sans MS"/>
              </a:rPr>
              <a:t>No God!</a:t>
            </a:r>
            <a:br>
              <a:rPr sz="3200"/>
            </a:br>
            <a:r>
              <a:rPr b="1" lang="en-US" sz="3200" spc="-1" strike="noStrike">
                <a:solidFill>
                  <a:srgbClr val="dd8047"/>
                </a:solidFill>
                <a:latin typeface="Comic Sans MS"/>
              </a:rPr>
              <a:t>No Religion!</a:t>
            </a:r>
            <a:br>
              <a:rPr sz="3200"/>
            </a:br>
            <a:r>
              <a:rPr b="1" lang="en-US" sz="3200" spc="-1" strike="noStrike">
                <a:solidFill>
                  <a:srgbClr val="dd8047"/>
                </a:solidFill>
                <a:latin typeface="Comic Sans MS"/>
              </a:rPr>
              <a:t>No King!</a:t>
            </a:r>
            <a:br>
              <a:rPr sz="3200"/>
            </a:br>
            <a:r>
              <a:rPr b="1" lang="en-US" sz="3200" spc="-1" strike="noStrike">
                <a:solidFill>
                  <a:srgbClr val="dd8047"/>
                </a:solidFill>
                <a:latin typeface="Comic Sans MS"/>
              </a:rPr>
              <a:t>No Constitution!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60" name="Picture 3" descr="No God No Religion No King No Constitution"/>
          <p:cNvPicPr/>
          <p:nvPr/>
        </p:nvPicPr>
        <p:blipFill>
          <a:blip r:embed="rId1">
            <a:lum contrast="6000"/>
          </a:blip>
          <a:srcRect l="1768" t="1266" r="2797" b="1266"/>
          <a:stretch/>
        </p:blipFill>
        <p:spPr>
          <a:xfrm>
            <a:off x="838080" y="457200"/>
            <a:ext cx="4114800" cy="5867280"/>
          </a:xfrm>
          <a:prstGeom prst="rect">
            <a:avLst/>
          </a:prstGeom>
          <a:ln w="9360">
            <a:solidFill>
              <a:srgbClr val="ebddc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914400" y="15228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The Guillotine: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An “Enlightenment Tool”</a:t>
            </a:r>
            <a:r>
              <a:rPr b="1" lang="en-US" sz="4400" spc="-1" strike="noStrike">
                <a:solidFill>
                  <a:srgbClr val="dd8047"/>
                </a:solidFill>
                <a:latin typeface="BlackChancery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914400" y="1676520"/>
            <a:ext cx="7467480" cy="521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ebddc3"/>
                </a:solidFill>
                <a:latin typeface="Nosferatu"/>
              </a:rPr>
              <a:t>Oh, thou charming guillotine, </a:t>
            </a: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Nosferatu"/>
              </a:rPr>
              <a:t>You shorten kings and queens;</a:t>
            </a: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Nosferatu"/>
              </a:rPr>
              <a:t>By your influence divine,</a:t>
            </a: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Nosferatu"/>
              </a:rPr>
              <a:t>We have re-conquered our rights.</a:t>
            </a: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Nosferatu"/>
              </a:rPr>
              <a:t>Come to aid of the Country</a:t>
            </a: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Nosferatu"/>
              </a:rPr>
              <a:t>And let your superb instrument</a:t>
            </a: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Nosferatu"/>
              </a:rPr>
              <a:t>Become forever permanent</a:t>
            </a: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Nosferatu"/>
              </a:rPr>
              <a:t>To destroy the impious sect.</a:t>
            </a: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Nosferatu"/>
              </a:rPr>
              <a:t>Sharpen your razor for Pitt and his agents</a:t>
            </a: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Nosferatu"/>
              </a:rPr>
              <a:t>Fill your divine sack with heads of tyrants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1562040" y="168120"/>
            <a:ext cx="59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lackChancery"/>
              </a:rPr>
              <a:t>The Terror Intensified: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BlackChancery"/>
              </a:rPr>
              <a:t>March to July, 1794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1219320" y="3765600"/>
            <a:ext cx="716256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ec0000"/>
              </a:buClr>
              <a:buFont typeface="PressWriter Symbols" charset="2"/>
              <a:buChar char="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dd8047"/>
                </a:solidFill>
                <a:latin typeface="Comic Sans MS"/>
              </a:rPr>
              <a:t>Law of 22 Prairi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June 10, 1794]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852480" indent="-217440">
              <a:lnSpc>
                <a:spcPct val="100000"/>
              </a:lnSpc>
              <a:buClr>
                <a:srgbClr val="dd804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ials were now limited to deciding only on liberty OR death, with defendants having no righ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52480" indent="-217440">
              <a:lnSpc>
                <a:spcPct val="100000"/>
              </a:lnSpc>
              <a:buClr>
                <a:srgbClr val="dd804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ere you an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“enemy of the people?”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(the law was so broadly written that almost anyone could fall within its definition!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buClr>
                <a:srgbClr val="ec0000"/>
              </a:buClr>
              <a:buFont typeface="PressWriter Symbols" charset="2"/>
              <a:buChar char="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,500 executed between June &amp; July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Oval 4"/>
          <p:cNvSpPr/>
          <p:nvPr/>
        </p:nvSpPr>
        <p:spPr>
          <a:xfrm>
            <a:off x="5715000" y="1752480"/>
            <a:ext cx="2514600" cy="1295640"/>
          </a:xfrm>
          <a:prstGeom prst="ellipse">
            <a:avLst/>
          </a:prstGeom>
          <a:solidFill>
            <a:srgbClr val="dd8047"/>
          </a:solidFill>
          <a:ln w="0">
            <a:noFill/>
          </a:ln>
          <a:effectLst>
            <a:outerShdw dist="17819" dir="2700000" blurRad="0" rotWithShape="0">
              <a:srgbClr val="854d2b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5943600" y="2057400"/>
            <a:ext cx="20574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d709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Danton &amp; th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“Indulgents”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Line 6"/>
          <p:cNvSpPr/>
          <p:nvPr/>
        </p:nvSpPr>
        <p:spPr>
          <a:xfrm flipH="1">
            <a:off x="5105520" y="2362320"/>
            <a:ext cx="761760" cy="0"/>
          </a:xfrm>
          <a:prstGeom prst="line">
            <a:avLst/>
          </a:prstGeom>
          <a:ln w="38160">
            <a:solidFill>
              <a:srgbClr val="dd80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AutoShape 7"/>
          <p:cNvSpPr/>
          <p:nvPr/>
        </p:nvSpPr>
        <p:spPr>
          <a:xfrm rot="12667200">
            <a:off x="4038120" y="1751760"/>
            <a:ext cx="1143000" cy="1219320"/>
          </a:xfrm>
          <a:prstGeom prst="irregularSeal1">
            <a:avLst/>
          </a:prstGeom>
          <a:gradFill rotWithShape="0">
            <a:gsLst>
              <a:gs pos="0">
                <a:srgbClr val="ffff66"/>
              </a:gs>
              <a:gs pos="100000">
                <a:srgbClr val="f06100"/>
              </a:gs>
            </a:gsLst>
            <a:lin ang="834000"/>
          </a:gradFill>
          <a:ln w="0">
            <a:noFill/>
          </a:ln>
          <a:effectLst>
            <a:outerShdw dist="17819" dir="2700000" blurRad="0" rotWithShape="0">
              <a:srgbClr val="903a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Oval 8"/>
          <p:cNvSpPr/>
          <p:nvPr/>
        </p:nvSpPr>
        <p:spPr>
          <a:xfrm flipH="1">
            <a:off x="913680" y="1752480"/>
            <a:ext cx="2514600" cy="1295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Text Box 9"/>
          <p:cNvSpPr/>
          <p:nvPr/>
        </p:nvSpPr>
        <p:spPr>
          <a:xfrm flipH="1">
            <a:off x="1218600" y="1889280"/>
            <a:ext cx="20574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d709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Jacques Hébert &amp; th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Hérbetis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Line 10"/>
          <p:cNvSpPr/>
          <p:nvPr/>
        </p:nvSpPr>
        <p:spPr>
          <a:xfrm>
            <a:off x="3352680" y="236232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Rectangle 11"/>
          <p:cNvSpPr/>
          <p:nvPr/>
        </p:nvSpPr>
        <p:spPr>
          <a:xfrm>
            <a:off x="5631120" y="3060720"/>
            <a:ext cx="2751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Executed in April, 1794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Rectangle 12"/>
          <p:cNvSpPr/>
          <p:nvPr/>
        </p:nvSpPr>
        <p:spPr>
          <a:xfrm>
            <a:off x="771840" y="3060720"/>
            <a:ext cx="2943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Executed in March, 1794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385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385" fill="hold"/>
                                        <p:tgtEl>
                                          <p:spTgt spid="4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1" dur="385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" dur="385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838080" y="160200"/>
            <a:ext cx="7543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600" spc="-1" strike="noStrike">
                <a:solidFill>
                  <a:srgbClr val="ff3300"/>
                </a:solidFill>
                <a:latin typeface="BlackChancery"/>
              </a:rPr>
              <a:t>French Victory at Fleurus</a:t>
            </a:r>
            <a:endParaRPr b="0" lang="en-US" sz="4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73" name="Picture 3" descr="fleurus"/>
          <p:cNvPicPr/>
          <p:nvPr/>
        </p:nvPicPr>
        <p:blipFill>
          <a:blip r:embed="rId1"/>
          <a:stretch/>
        </p:blipFill>
        <p:spPr>
          <a:xfrm>
            <a:off x="228600" y="1371600"/>
            <a:ext cx="4572000" cy="3952800"/>
          </a:xfrm>
          <a:prstGeom prst="rect">
            <a:avLst/>
          </a:prstGeom>
          <a:ln w="9360">
            <a:solidFill>
              <a:srgbClr val="ebddc3"/>
            </a:solidFill>
            <a:miter/>
          </a:ln>
        </p:spPr>
      </p:pic>
      <p:sp>
        <p:nvSpPr>
          <p:cNvPr id="474" name="Rectangle 4"/>
          <p:cNvSpPr/>
          <p:nvPr/>
        </p:nvSpPr>
        <p:spPr>
          <a:xfrm>
            <a:off x="4724280" y="228600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buClr>
                <a:srgbClr val="d00000"/>
              </a:buClr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June 26, 1794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406440" indent="-406440">
              <a:lnSpc>
                <a:spcPct val="100000"/>
              </a:lnSpc>
              <a:buClr>
                <a:srgbClr val="d00000"/>
              </a:buClr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rance defeated Austria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406440" indent="-406440">
              <a:lnSpc>
                <a:spcPct val="100000"/>
              </a:lnSpc>
              <a:buClr>
                <a:srgbClr val="d00000"/>
              </a:buClr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s opened the way to the reoccupation of Belgium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0" y="411120"/>
            <a:ext cx="8915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lackChancery"/>
              </a:rPr>
              <a:t>The “Thermidorean Reaction,” </a:t>
            </a:r>
            <a:r>
              <a:rPr b="1" lang="en-US" sz="3600" spc="-1" strike="noStrike">
                <a:solidFill>
                  <a:srgbClr val="ff3300"/>
                </a:solidFill>
                <a:latin typeface="BlackChancery"/>
              </a:rPr>
              <a:t>1794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1600200" y="1455840"/>
            <a:ext cx="624852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buClr>
                <a:srgbClr val="d00000"/>
              </a:buClr>
              <a:buFont typeface="Even More Dings JL"/>
              <a:buChar char="P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July 26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Robespierre gives a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            speech illustrating new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            plots &amp; conspiracie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1022400" indent="-277920">
              <a:lnSpc>
                <a:spcPct val="100000"/>
              </a:lnSpc>
              <a:buClr>
                <a:srgbClr val="dd8047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e alienated members of the CPS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amp; CGS.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1022400" indent="-277920">
              <a:lnSpc>
                <a:spcPct val="100000"/>
              </a:lnSpc>
              <a:buClr>
                <a:srgbClr val="dd8047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ny felt threatened by his     implications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465120" indent="-465120">
              <a:lnSpc>
                <a:spcPct val="100000"/>
              </a:lnSpc>
              <a:buClr>
                <a:srgbClr val="d00000"/>
              </a:buClr>
              <a:buFont typeface="Even More Dings JL"/>
              <a:buChar char="P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July 27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 Convention arrest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            Robespierr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65120" indent="-465120">
              <a:lnSpc>
                <a:spcPct val="100000"/>
              </a:lnSpc>
              <a:buClr>
                <a:srgbClr val="d00000"/>
              </a:buClr>
              <a:buFont typeface="Even More Dings JL"/>
              <a:buChar char="P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July 28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Robespierre is tried &amp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            guillotined!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1295280" y="76320"/>
            <a:ext cx="659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The Arrest of Robespierr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78" name="Picture 3" descr="robespierre04"/>
          <p:cNvPicPr/>
          <p:nvPr/>
        </p:nvPicPr>
        <p:blipFill>
          <a:blip r:embed="rId1"/>
          <a:stretch/>
        </p:blipFill>
        <p:spPr>
          <a:xfrm>
            <a:off x="1143000" y="1523880"/>
            <a:ext cx="7010280" cy="4705560"/>
          </a:xfrm>
          <a:prstGeom prst="rect">
            <a:avLst/>
          </a:prstGeom>
          <a:ln w="9360">
            <a:solidFill>
              <a:srgbClr val="ebddc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609480" y="152280"/>
            <a:ext cx="792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The Revolution Consumes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Its Own Children!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0" name="Picture 3" descr="Danton execution"/>
          <p:cNvPicPr/>
          <p:nvPr/>
        </p:nvPicPr>
        <p:blipFill>
          <a:blip r:embed="rId1"/>
          <a:stretch/>
        </p:blipFill>
        <p:spPr>
          <a:xfrm>
            <a:off x="1062000" y="2043000"/>
            <a:ext cx="244332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81" name="Text Box 4"/>
          <p:cNvSpPr/>
          <p:nvPr/>
        </p:nvSpPr>
        <p:spPr>
          <a:xfrm>
            <a:off x="990720" y="4786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anton Awaits Execution, 1793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2" name="Picture 5" descr="Robespierre wounded"/>
          <p:cNvPicPr/>
          <p:nvPr/>
        </p:nvPicPr>
        <p:blipFill>
          <a:blip r:embed="rId2"/>
          <a:stretch/>
        </p:blipFill>
        <p:spPr>
          <a:xfrm>
            <a:off x="4114800" y="1981080"/>
            <a:ext cx="3886200" cy="2473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83" name="Text Box 6"/>
          <p:cNvSpPr/>
          <p:nvPr/>
        </p:nvSpPr>
        <p:spPr>
          <a:xfrm>
            <a:off x="4114800" y="449568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obespierre Lies Wound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efore the Revolutionary Tribunal that will order him to be guillotined, 1794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6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785880" y="228600"/>
            <a:ext cx="774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lackChancery"/>
              </a:rPr>
              <a:t>The “Cultural Revolution”Brought About by the Convention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990720" y="182880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buClr>
                <a:srgbClr val="ec0000"/>
              </a:buClr>
              <a:buFont typeface="Wingdings" charset="2"/>
              <a:buChar char="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premised upon Enlightenment principles of rationality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1680" indent="-571680">
              <a:lnSpc>
                <a:spcPct val="100000"/>
              </a:lnSpc>
              <a:buClr>
                <a:srgbClr val="ec0000"/>
              </a:buClr>
              <a:buFont typeface="Wingdings" charset="2"/>
              <a:buChar char="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etric system of weights and measur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51000" indent="-336600">
              <a:lnSpc>
                <a:spcPct val="100000"/>
              </a:lnSpc>
              <a:buClr>
                <a:srgbClr val="dd8047"/>
              </a:buClr>
              <a:buSzPct val="12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as defined by the French Academy of Sciences in 1791 and enforced in 1793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1251000" indent="-336600">
              <a:lnSpc>
                <a:spcPct val="100000"/>
              </a:lnSpc>
              <a:buClr>
                <a:srgbClr val="dd8047"/>
              </a:buClr>
              <a:buSzPct val="12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t replaced weights and measures that had their origins in the Middle Ages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571680" indent="-571680">
              <a:lnSpc>
                <a:spcPct val="100000"/>
              </a:lnSpc>
              <a:buClr>
                <a:srgbClr val="ec0000"/>
              </a:buClr>
              <a:buFont typeface="Wingdings" charset="2"/>
              <a:buChar char="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bolition of slavery within France in 1791 and throughout the French colonies in 1794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1680" indent="-571680">
              <a:lnSpc>
                <a:spcPct val="100000"/>
              </a:lnSpc>
              <a:buClr>
                <a:srgbClr val="ec0000"/>
              </a:buClr>
              <a:buFont typeface="Wingdings" charset="2"/>
              <a:buChar char="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vention legalized divorce and enacted shared inheritance laws [even for illegitimate offspring] in an attempt to eradicate inequalitie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0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0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785880" y="239760"/>
            <a:ext cx="77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lackChancery"/>
              </a:rPr>
              <a:t>Read More About the Revolution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7" name="Picture 3" descr="ah_faculty_schama_book_cilg"/>
          <p:cNvPicPr/>
          <p:nvPr/>
        </p:nvPicPr>
        <p:blipFill>
          <a:blip r:embed="rId1"/>
          <a:srcRect l="-53732" t="0" r="-53732" b="0"/>
          <a:stretch/>
        </p:blipFill>
        <p:spPr>
          <a:xfrm>
            <a:off x="457200" y="1001880"/>
            <a:ext cx="8229600" cy="58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2"/>
          <p:cNvSpPr/>
          <p:nvPr/>
        </p:nvSpPr>
        <p:spPr>
          <a:xfrm>
            <a:off x="1777320" y="387360"/>
            <a:ext cx="5659560" cy="642600"/>
          </a:xfrm>
          <a:prstGeom prst="rect">
            <a:avLst/>
          </a:prstGeom>
          <a:solidFill>
            <a:srgbClr val="ec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lackChancery"/>
              </a:rPr>
              <a:t>Bibliographic Resource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990720" y="1371600"/>
            <a:ext cx="7238880" cy="48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c0000"/>
              </a:buClr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ist210—Europe in the Age of Revolutions.”</a:t>
            </a:r>
            <a:br>
              <a:rPr sz="2400"/>
            </a:br>
            <a:r>
              <a:rPr b="0" lang="en-US" sz="2400" spc="-1" strike="noStrike" u="sng">
                <a:solidFill>
                  <a:srgbClr val="f7b615"/>
                </a:solidFill>
                <a:uFillTx/>
                <a:latin typeface="Comic Sans MS"/>
                <a:hlinkClick r:id="rId1"/>
              </a:rPr>
              <a:t>http://www.ucl.ac.uk/history/courses/europe1/chron/rch5.ht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c0000"/>
              </a:buClr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berty, Fraternity, Equality:  Exploring the French Revolution.”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Comic Sans MS"/>
                <a:hlinkClick r:id="rId2"/>
              </a:rPr>
              <a:t>http://chnm.gmu.edu/revolution/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c0000"/>
              </a:buClr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tthews, Andrew.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volution and  Reaction: Europe, 1789-1849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Cambridg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iversity Press, 2001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c0000"/>
              </a:buClr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Napoleonic Guide.” </a:t>
            </a:r>
            <a:br>
              <a:rPr sz="2400"/>
            </a:br>
            <a:r>
              <a:rPr b="0" lang="en-US" sz="2400" spc="-1" strike="noStrike" u="sng">
                <a:solidFill>
                  <a:srgbClr val="f7b615"/>
                </a:solidFill>
                <a:uFillTx/>
                <a:latin typeface="Comic Sans MS"/>
                <a:hlinkClick r:id="rId3"/>
              </a:rPr>
              <a:t>http://www.napoleonguide.com/index.ht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914400" y="39672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Different Social Classes Executed 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3" name="Picture 3" descr="pie graph-executions during Reign of Terror"/>
          <p:cNvPicPr/>
          <p:nvPr/>
        </p:nvPicPr>
        <p:blipFill>
          <a:blip r:embed="rId1">
            <a:lum contrast="6000"/>
          </a:blip>
          <a:srcRect l="0" t="0" r="0" b="17119"/>
          <a:stretch/>
        </p:blipFill>
        <p:spPr>
          <a:xfrm>
            <a:off x="2057400" y="2286000"/>
            <a:ext cx="5257800" cy="358128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4"/>
          <p:cNvSpPr/>
          <p:nvPr/>
        </p:nvSpPr>
        <p:spPr>
          <a:xfrm>
            <a:off x="42670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8%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37339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1%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24382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2743200" y="2971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327672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%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1371600" y="282600"/>
            <a:ext cx="64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lackChancery"/>
              </a:rPr>
              <a:t>The “Monster” Guillotin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0" name="Picture 3" descr="Terror"/>
          <p:cNvPicPr/>
          <p:nvPr/>
        </p:nvPicPr>
        <p:blipFill>
          <a:blip r:embed="rId1"/>
          <a:stretch/>
        </p:blipFill>
        <p:spPr>
          <a:xfrm>
            <a:off x="1447920" y="1143000"/>
            <a:ext cx="6324480" cy="4300560"/>
          </a:xfrm>
          <a:prstGeom prst="rect">
            <a:avLst/>
          </a:prstGeom>
          <a:ln w="9360">
            <a:solidFill>
              <a:srgbClr val="ebddc3"/>
            </a:solidFill>
            <a:miter/>
          </a:ln>
        </p:spPr>
      </p:pic>
      <p:sp>
        <p:nvSpPr>
          <p:cNvPr id="411" name="Rectangle 4"/>
          <p:cNvSpPr/>
          <p:nvPr/>
        </p:nvSpPr>
        <p:spPr>
          <a:xfrm>
            <a:off x="2627640" y="6130800"/>
            <a:ext cx="62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last guillotine execution in France was i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193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85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385" fill="hold"/>
                                        <p:tgtEl>
                                          <p:spTgt spid="4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385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385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BlackChancery"/>
              </a:rPr>
              <a:t>War of Resistance to the Revolution: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BlackChancery"/>
              </a:rPr>
              <a:t>The Vendee Revolt, 1793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3" name="Picture 3" descr="map-Vendée Rebellion, 1793"/>
          <p:cNvPicPr/>
          <p:nvPr/>
        </p:nvPicPr>
        <p:blipFill>
          <a:blip r:embed="rId1">
            <a:lum contrast="6000"/>
          </a:blip>
          <a:srcRect l="1679" t="1341" r="2795" b="0"/>
          <a:stretch/>
        </p:blipFill>
        <p:spPr>
          <a:xfrm>
            <a:off x="4343400" y="1523880"/>
            <a:ext cx="3833640" cy="4953240"/>
          </a:xfrm>
          <a:prstGeom prst="rect">
            <a:avLst/>
          </a:prstGeom>
          <a:ln w="9360">
            <a:solidFill>
              <a:srgbClr val="ebddc3"/>
            </a:solidFill>
            <a:miter/>
          </a:ln>
        </p:spPr>
      </p:pic>
      <p:pic>
        <p:nvPicPr>
          <p:cNvPr id="414" name="Picture 4" descr="Vendee Revolt-1793"/>
          <p:cNvPicPr/>
          <p:nvPr/>
        </p:nvPicPr>
        <p:blipFill>
          <a:blip r:embed="rId2"/>
          <a:stretch/>
        </p:blipFill>
        <p:spPr>
          <a:xfrm>
            <a:off x="685800" y="1523880"/>
            <a:ext cx="2828880" cy="4219560"/>
          </a:xfrm>
          <a:prstGeom prst="rect">
            <a:avLst/>
          </a:prstGeom>
          <a:ln w="9360">
            <a:solidFill>
              <a:srgbClr val="ebddc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644480" y="318960"/>
            <a:ext cx="59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BlackChancery"/>
              </a:rPr>
              <a:t>Vendee</a:t>
            </a: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 Revolt, 1793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6" name="Picture 3" descr="drowning12-6-93"/>
          <p:cNvPicPr/>
          <p:nvPr/>
        </p:nvPicPr>
        <p:blipFill>
          <a:blip r:embed="rId1"/>
          <a:srcRect l="1165" t="2774" r="2323" b="12526"/>
          <a:stretch/>
        </p:blipFill>
        <p:spPr>
          <a:xfrm>
            <a:off x="1066680" y="1538280"/>
            <a:ext cx="5257800" cy="386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7" name="Rectangle 4"/>
          <p:cNvSpPr/>
          <p:nvPr/>
        </p:nvSpPr>
        <p:spPr>
          <a:xfrm>
            <a:off x="1681920" y="5500800"/>
            <a:ext cx="39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owning the Traitors!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8" name="Picture 5" descr="Vendee symbol-for God and the King"/>
          <p:cNvPicPr/>
          <p:nvPr/>
        </p:nvPicPr>
        <p:blipFill>
          <a:blip r:embed="rId2"/>
          <a:stretch/>
        </p:blipFill>
        <p:spPr>
          <a:xfrm>
            <a:off x="6705720" y="1905120"/>
            <a:ext cx="1523880" cy="1920600"/>
          </a:xfrm>
          <a:prstGeom prst="rect">
            <a:avLst/>
          </a:prstGeom>
          <a:ln w="9360">
            <a:solidFill>
              <a:srgbClr val="6d709e"/>
            </a:solidFill>
            <a:miter/>
          </a:ln>
        </p:spPr>
      </p:pic>
      <p:sp>
        <p:nvSpPr>
          <p:cNvPr id="419" name="Rectangle 6"/>
          <p:cNvSpPr/>
          <p:nvPr/>
        </p:nvSpPr>
        <p:spPr>
          <a:xfrm>
            <a:off x="6553080" y="41911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ndee Symbol:</a:t>
            </a:r>
            <a:br>
              <a:rPr sz="2400"/>
            </a:br>
            <a:r>
              <a:rPr b="0" i="1" lang="en-US" sz="2400" spc="-1" strike="noStrike">
                <a:solidFill>
                  <a:srgbClr val="000099"/>
                </a:solidFill>
                <a:latin typeface="Comic Sans MS"/>
              </a:rPr>
              <a:t>For God &amp; the King!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1219320" y="228600"/>
            <a:ext cx="6691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Why was there a Revolt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in the </a:t>
            </a:r>
            <a:r>
              <a:rPr b="1" i="1" lang="en-US" sz="4400" spc="-1" strike="noStrike">
                <a:solidFill>
                  <a:srgbClr val="ff3300"/>
                </a:solidFill>
                <a:latin typeface="BlackChancery"/>
              </a:rPr>
              <a:t>Vendee</a:t>
            </a: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1015920" y="1903320"/>
            <a:ext cx="6732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ec0000"/>
              </a:buClr>
              <a:buFont typeface="Comic Sans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need for 300,000 French troop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the war effor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buClr>
                <a:srgbClr val="ec0000"/>
              </a:buClr>
              <a:buFont typeface="Comic Sans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ral peasantry still highly taxed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buClr>
                <a:srgbClr val="ec0000"/>
              </a:buClr>
              <a:buFont typeface="Comic Sans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entment of the Civil Constitu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lergy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buClr>
                <a:srgbClr val="ec0000"/>
              </a:buClr>
              <a:buFont typeface="Comic Sans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asants had failed to benefit fro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ale of church land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1479600" y="5518080"/>
            <a:ext cx="1823760" cy="520560"/>
          </a:xfrm>
          <a:prstGeom prst="rect">
            <a:avLst/>
          </a:prstGeom>
          <a:noFill/>
          <a:ln w="9360">
            <a:solidFill>
              <a:srgbClr val="e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dd8047"/>
                </a:solidFill>
                <a:latin typeface="Comic Sans MS"/>
              </a:rPr>
              <a:t>TARGET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Line 5"/>
          <p:cNvSpPr/>
          <p:nvPr/>
        </p:nvSpPr>
        <p:spPr>
          <a:xfrm flipV="1">
            <a:off x="3429000" y="5442120"/>
            <a:ext cx="838080" cy="304560"/>
          </a:xfrm>
          <a:prstGeom prst="line">
            <a:avLst/>
          </a:prstGeom>
          <a:ln w="28440">
            <a:solidFill>
              <a:srgbClr val="e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Line 6"/>
          <p:cNvSpPr/>
          <p:nvPr/>
        </p:nvSpPr>
        <p:spPr>
          <a:xfrm>
            <a:off x="3429000" y="5823000"/>
            <a:ext cx="838080" cy="0"/>
          </a:xfrm>
          <a:prstGeom prst="line">
            <a:avLst/>
          </a:prstGeom>
          <a:ln w="28440">
            <a:solidFill>
              <a:srgbClr val="e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Line 7"/>
          <p:cNvSpPr/>
          <p:nvPr/>
        </p:nvSpPr>
        <p:spPr>
          <a:xfrm>
            <a:off x="3429000" y="5899320"/>
            <a:ext cx="838080" cy="304560"/>
          </a:xfrm>
          <a:prstGeom prst="line">
            <a:avLst/>
          </a:prstGeom>
          <a:ln w="28440">
            <a:solidFill>
              <a:srgbClr val="e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Rectangle 8"/>
          <p:cNvSpPr/>
          <p:nvPr/>
        </p:nvSpPr>
        <p:spPr>
          <a:xfrm>
            <a:off x="4267080" y="521352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 government officia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ional Guardsm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rying pries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838080" y="457200"/>
            <a:ext cx="750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Political Propaganda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0" name="Picture 5" descr="The Contrast-Br_vs_FrLiberty"/>
          <p:cNvPicPr/>
          <p:nvPr/>
        </p:nvPicPr>
        <p:blipFill>
          <a:blip r:embed="rId1"/>
          <a:srcRect l="0" t="-3819" r="0" b="-3819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762120" y="233280"/>
            <a:ext cx="76975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The Contrast: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BlackChancery"/>
              </a:rPr>
              <a:t>“French Liberty / British Slavery”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4" name="Picture 5" descr="French Liberty-English Slavery"/>
          <p:cNvPicPr/>
          <p:nvPr/>
        </p:nvPicPr>
        <p:blipFill>
          <a:blip r:embed="rId1">
            <a:lum contrast="12000"/>
          </a:blip>
          <a:srcRect l="0" t="-965" r="0" b="-965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9360">
            <a:solidFill>
              <a:srgbClr val="6d709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7:25:11Z</dcterms:created>
  <dc:creator>Sue Gregory</dc:creator>
  <dc:description/>
  <dc:language>en-US</dc:language>
  <cp:lastModifiedBy>Sue Gregory</cp:lastModifiedBy>
  <dcterms:modified xsi:type="dcterms:W3CDTF">2009-01-21T07:33:22Z</dcterms:modified>
  <cp:revision>3</cp:revision>
  <dc:subject/>
  <dc:title>End of the Radical Rev </dc:title>
</cp:coreProperties>
</file>